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1E0C-652A-4F62-8375-3FA519448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772A-4781-43A5-804A-9346E83C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014D-DDB7-4125-9DF0-A587F6109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2435-8B54-4649-BC23-BAA5F4574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D249-5CC2-4139-87A2-E35C767C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C107-F083-49CF-9A7B-C25126CF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CC72-13BB-4182-AC5F-23838BD3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4A6A-2C3C-4291-AE6F-9F44B36C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8915-932D-48E4-B708-E32FF156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20FD-5F40-4D27-ACAF-BBAC0AA5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9297-5C30-4E2E-AF01-9FF96145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78B7-E0AF-4264-912D-AAB45DCE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B68E-C0D2-4B48-98FE-8360677F0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876920" y="4191120"/>
          <a:ext cx="685800" cy="242892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fe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2133720" y="434340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3581280" y="4648320"/>
          <a:ext cx="838080" cy="169992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c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600200" y="2133720"/>
          <a:ext cx="838080" cy="169992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k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5867280" y="3962520"/>
          <a:ext cx="990720" cy="1699920"/>
        </p:xfrm>
        <a:graphic>
          <a:graphicData uri="http://schemas.openxmlformats.org/drawingml/2006/table">
            <a:tbl>
              <a:tblPr/>
              <a:tblGrid>
                <a:gridCol w="99072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6172200" y="1600200"/>
          <a:ext cx="990720" cy="1943280"/>
        </p:xfrm>
        <a:graphic>
          <a:graphicData uri="http://schemas.openxmlformats.org/drawingml/2006/table">
            <a:tbl>
              <a:tblPr/>
              <a:tblGrid>
                <a:gridCol w="99072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_se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_se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_rep_se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_rep_se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2286000" y="990720"/>
          <a:ext cx="838080" cy="728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3886200" y="2895480"/>
            <a:ext cx="457200" cy="457200"/>
          </a:xfrm>
          <a:prstGeom prst="flowChartDecision">
            <a:avLst/>
          </a:prstGeom>
          <a:solidFill>
            <a:srgbClr val="f7fb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3048120" y="3124080"/>
            <a:ext cx="8380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3200400" y="1294920"/>
            <a:ext cx="9144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114800" y="1981080"/>
            <a:ext cx="1981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43400" y="3124080"/>
            <a:ext cx="13716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3124080"/>
            <a:ext cx="4572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962160" y="3352680"/>
            <a:ext cx="1522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2666520" y="2971440"/>
            <a:ext cx="1219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43792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43792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43792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029200" y="228600"/>
          <a:ext cx="838080" cy="170028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3886200" y="152280"/>
          <a:ext cx="838080" cy="170028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_pro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_fc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7:33:38Z</dcterms:created>
  <dc:creator>Perseus Missirlis</dc:creator>
  <dc:description/>
  <dc:language>en-US</dc:language>
  <cp:lastModifiedBy>Perseus Missirlis</cp:lastModifiedBy>
  <dcterms:modified xsi:type="dcterms:W3CDTF">2003-11-27T00:52:12Z</dcterms:modified>
  <cp:revision>7</cp:revision>
  <dc:subject/>
  <dc:title>Slide 1</dc:title>
</cp:coreProperties>
</file>