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D49-3ECC-45F8-8FE7-970B9EB9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50-E1DC-4ADE-98D2-EA8EBF4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43A-3A89-4CDA-B636-2FE4520A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40E-BFDB-4ABD-B3D1-6D8C9904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463-7DCC-4547-8F8F-E639B7E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A2F-87BF-4A7D-9687-FCE00D95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E16-2D2C-40CA-936F-631AE03C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4FB-8A0E-4FC5-B428-D062D8C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27A-38D3-4560-9D09-F74F5285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772-EAF9-4D6F-9C03-4B6264F7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41C-9645-4257-8ACA-01CD849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5CE-DD55-444F-83DD-764F4DB2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0CC-DA50-4DC7-8F8E-18691DE6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240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6002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01992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191120" y="15235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62940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81480" y="502920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62940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0199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940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62940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1992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81480" y="14479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001000" y="419112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_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467480" y="3733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 flipV="1">
            <a:off x="24379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1480" y="342900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191120" y="274320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5T03:28:43Z</dcterms:modified>
  <cp:revision>16</cp:revision>
  <dc:subject/>
  <dc:title>Slide 1</dc:title>
</cp:coreProperties>
</file>