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9AC-4BBF-47A4-84E5-968AEDF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C58-E3A3-493B-9C60-0C609782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3D5-F0AE-4E83-B92A-A2683FD7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727-3921-4814-91E4-5E76F50A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401-55DC-4A8D-A980-0844A351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772-F1D1-40B0-914C-1B49973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069-F44A-4B79-B7E6-95EB267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746-0F83-4249-A85B-743B55E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41F-B379-4262-8284-E8772BC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C10-8E2C-4872-84DB-8FD48EE6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C07-1432-4A5E-B04A-097289C7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FE7-12E6-47E3-9FA7-8468862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3E3-9E48-4C7C-B80D-8D54CBF9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2-16T17:59:58Z</dcterms:modified>
  <cp:revision>30</cp:revision>
  <dc:subject/>
  <dc:title>Slide 1</dc:title>
</cp:coreProperties>
</file>