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B85-40C5-449E-98FB-0ADE7F45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0A1-B8D3-4C7A-AFB7-CDCB01D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479-50EB-4A76-B3BA-BB5EEC63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249-7003-44C8-85C9-E70E46FE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141-0FC6-44D6-944B-54CFB63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1AC-966A-4C1E-AD07-54E9CB03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C70-918E-4E34-AD43-075EDB9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866-792A-43B3-ABB0-02D25D0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1AE-7564-49F9-87E9-70CFB19C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ADE-5558-4551-8F7E-1F960A1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8A7-BFE2-45B7-AC4B-6D61168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0E1-669E-48FE-AF33-6FAA8EE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7550-92A7-4C8C-9AAB-53554418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0T23:43:40Z</dcterms:modified>
  <cp:revision>54</cp:revision>
  <dc:subject/>
  <dc:title>Slide 1</dc:title>
</cp:coreProperties>
</file>