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326-E890-4AD0-B9EC-021E9845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2E5-55C3-4CC8-989B-822E4844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42C6-F812-4B46-BD14-C2709083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3BB-1475-4FB7-9E6E-46DF890E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6DC7-3F0A-43AB-9D8A-BE26EAEB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D8C-448A-4764-8E0F-0C2D2325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574-0F5E-40CE-9400-59DEFB16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6363-73C7-4C8A-97D3-9649425A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65C-9796-4F6A-9158-A5DD557A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0377-63CE-416E-9CC3-0C0B6E9C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8364-32AC-420F-A805-89BB0219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B12-D92B-42BB-B168-8EDED425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2F92-70C8-4130-A474-EB7173225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6477120" y="76176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477120" y="91440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477120" y="914400"/>
            <a:ext cx="60948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914400"/>
            <a:ext cx="6094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638680" y="762120"/>
          <a:ext cx="838440" cy="2185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8153280" y="4724280"/>
          <a:ext cx="838440" cy="1943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7926480" y="4119480"/>
            <a:ext cx="226800" cy="90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66680" y="152280"/>
          <a:ext cx="990360" cy="121464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 flipH="1" flipV="1">
            <a:off x="2057400" y="30492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NeuroLog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v2.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- 0504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638680" y="3200400"/>
          <a:ext cx="838080" cy="340056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isease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eri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_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3581280" y="1981080"/>
            <a:ext cx="53352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114800" y="152280"/>
          <a:ext cx="1066680" cy="1700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 flipV="1">
            <a:off x="3581280" y="309240"/>
            <a:ext cx="534960" cy="174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3049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057400" y="15235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057400" y="2666880"/>
            <a:ext cx="45720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066680" y="5181480"/>
          <a:ext cx="990360" cy="145728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yt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066680" y="1447920"/>
          <a:ext cx="990720" cy="364320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nk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_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_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514600" y="1905120"/>
          <a:ext cx="1066680" cy="267156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114800" y="5486400"/>
          <a:ext cx="1066320" cy="1214280"/>
        </p:xfrm>
        <a:graphic>
          <a:graphicData uri="http://schemas.openxmlformats.org/drawingml/2006/table">
            <a:tbl>
              <a:tblPr/>
              <a:tblGrid>
                <a:gridCol w="106632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3581280" y="198108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14600" y="5029200"/>
          <a:ext cx="1066680" cy="155736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unt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114800" y="3352680"/>
          <a:ext cx="1066680" cy="77796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3581280" y="2057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5-05T23:25:23Z</dcterms:modified>
  <cp:revision>47</cp:revision>
  <dc:subject/>
  <dc:title>Slide 1</dc:title>
</cp:coreProperties>
</file>