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990-206A-4FD7-B562-D22E5FF2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D6E-9DAC-464F-B38B-102C747D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AE3-AFE6-43F8-9F16-1819A3F1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88C-1775-455E-9E61-572C8A16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808-3FB5-4B53-B324-88348423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E82-9F2B-46BE-AC55-04FCD98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F96-D0CD-48E8-BFB1-0CFC38B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FF4-1F69-41B7-BCE9-C2A81174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194-BD79-4351-9406-EC44017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C05-874E-42E2-995D-19542644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5F3-13C6-45F9-BD49-F9C8B53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281-742C-4292-92D8-7F8463D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63CC-E69C-4774-BFF8-F65A659E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522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1981080" y="228240"/>
            <a:ext cx="533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14800" y="312408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2666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37160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828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1080" y="2666880"/>
            <a:ext cx="5335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5257800"/>
          <a:ext cx="838080" cy="1457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ag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3-23T00:56:02Z</dcterms:modified>
  <cp:revision>37</cp:revision>
  <dc:subject/>
  <dc:title>Slide 1</dc:title>
</cp:coreProperties>
</file>