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3FE-62E0-4F36-8A26-97419A8E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E8E-BA9A-4CDC-81E0-831CAD65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11B-89B5-4986-9B63-BA9F4722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53D-2A29-41C8-AF15-3088A8AC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E30-184A-4D0D-B620-F64424B6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67B-4026-49BE-BEDB-178CF3F9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367-BDC3-472C-8AC8-052FFAA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AC2-7739-4DF0-866E-DA9DC02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315-3478-4AE4-B264-281ED60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A69-257E-4182-A8C1-EB27C479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DFD-2D9E-4E88-950F-710EBFC9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DA9-7CF1-469A-A0C4-905D621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DED-EA55-4672-9007-A9BA5BD79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22T23:04:21Z</dcterms:modified>
  <cp:revision>24</cp:revision>
  <dc:subject/>
  <dc:title>Slide 1</dc:title>
</cp:coreProperties>
</file>