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099-1455-4921-953A-275E10F6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3C57-6D0E-43BD-930D-262A7EB2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45A1-E4D0-4F6F-9EC8-A49397B5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7DC-2CAB-47AE-A5A4-A3CD730F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7E2-0830-4F4B-A510-05EB548B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4CA-69E1-46F2-81A9-4BE5A526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43D-6770-4536-A4AF-9DAA65FA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C50-C860-4F34-8E31-4DDB3B4C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687-DC23-4B9B-A84C-F5EADDF5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3E39-D82A-46B1-8CB5-0CCB8FB9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157F-A5C9-4453-AB0E-BFB7F560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BCC5-BFE6-4415-B675-45122F37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F7F6-06CE-4739-88D3-225385A07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14600" y="2514600"/>
          <a:ext cx="1066680" cy="218592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219320" y="3657600"/>
          <a:ext cx="838080" cy="1699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 flipV="1">
            <a:off x="6477120" y="7621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086600" y="609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114800" y="4876920"/>
          <a:ext cx="838080" cy="485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086600" y="1752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db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6477120" y="1523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086600" y="2895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086600" y="4038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fy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6477120" y="1523880"/>
            <a:ext cx="60948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1523880"/>
            <a:ext cx="6094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638680" y="1447920"/>
          <a:ext cx="838440" cy="1942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8153280" y="4952880"/>
          <a:ext cx="838440" cy="170028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7924680" y="41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19320" y="1523880"/>
          <a:ext cx="838080" cy="1214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 flipH="1" flipV="1">
            <a:off x="2057400" y="159984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hz_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1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040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114800" y="3505320"/>
          <a:ext cx="838080" cy="971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3581280" y="266688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114800" y="1905120"/>
          <a:ext cx="1066680" cy="14572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 flipV="1">
            <a:off x="3581280" y="1980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181480" y="1523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1-31T02:42:13Z</dcterms:modified>
  <cp:revision>26</cp:revision>
  <dc:subject/>
  <dc:title>Slide 1</dc:title>
</cp:coreProperties>
</file>