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45B-73AD-4B3A-9E24-60D09877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668-B307-4190-AF60-20592844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897-8DDC-48D8-87C6-EB2D7E45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3F7-FED6-4D46-8751-7F9D4F1A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9C6-2366-4314-836E-562F12C6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B5D-7859-4AEC-8A37-AF87575C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B4F-27CA-4A97-A210-E1A43DE2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A2B-3A37-4F79-AFA5-0E98CB5B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ABF-64FC-41BE-983E-7810907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2FD-C69E-4730-9AD0-5BF7664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6C8-0F8D-4F80-91CA-5E087C3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759-53D4-45BF-8687-AEA9904F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7E23-31A2-46CA-B323-6014C736E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200" y="228600"/>
            <a:ext cx="32767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ase-associated rep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200400" y="9144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91440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752480"/>
            <a:ext cx="2209680" cy="9907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 to map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1752480"/>
            <a:ext cx="221004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90560" y="2743200"/>
            <a:ext cx="2971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657600"/>
            <a:ext cx="3124080" cy="9907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not detected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657600"/>
            <a:ext cx="312444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detected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648320" y="4648320"/>
            <a:ext cx="1295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6483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486400"/>
            <a:ext cx="3733920" cy="9907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peat instability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486400"/>
            <a:ext cx="373392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instability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3:19:12Z</dcterms:created>
  <dc:creator>Perseus Missirlis</dc:creator>
  <dc:description/>
  <dc:language>en-US</dc:language>
  <cp:lastModifiedBy>Perseus Missirlis</cp:lastModifiedBy>
  <dcterms:modified xsi:type="dcterms:W3CDTF">2004-06-21T15:56:42Z</dcterms:modified>
  <cp:revision>4</cp:revision>
  <dc:subject/>
  <dc:title>Slide 1</dc:title>
</cp:coreProperties>
</file>