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41BC-61E1-4C57-835D-9ABFB7C38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24B6-FE8E-421A-A2A0-0DFA4F85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8920-BAEB-4709-9B2A-229158651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444A-CAB9-4B99-9162-F806A856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A9FE-E753-4F6F-B7FE-55F44E79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AE2D-9B74-4BAE-8446-249AD3E0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ABA6-2F5E-4389-B98B-17D8B657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3BD3-538E-410A-91F9-32804323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3F08-0CDE-4D45-AD90-317B25D9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6F43-A3AD-4523-9426-EC595144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85A7-00EF-4512-8A0D-BCB0DA23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B4D4-295C-4D2D-9E34-60597253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3408-91D5-4F6F-A593-DC908B053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14600" y="2514600"/>
          <a:ext cx="1066680" cy="218592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219320" y="3657600"/>
          <a:ext cx="838080" cy="16999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 flipV="1">
            <a:off x="6477120" y="7621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086600" y="609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114800" y="4876920"/>
          <a:ext cx="838080" cy="485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7086600" y="1752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db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6477120" y="15238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086600" y="2895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im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7086600" y="4038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fy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6477120" y="1523880"/>
            <a:ext cx="60948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1523880"/>
            <a:ext cx="6094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638680" y="1447920"/>
          <a:ext cx="838440" cy="1942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8153280" y="4952880"/>
          <a:ext cx="838440" cy="170028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7924680" y="41148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19320" y="1523880"/>
          <a:ext cx="838080" cy="1214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 flipH="1" flipV="1">
            <a:off x="2057400" y="159984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hz_d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1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040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114800" y="3505320"/>
          <a:ext cx="838080" cy="971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3581280" y="266688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280" y="152280"/>
          <a:ext cx="838440" cy="971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_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_r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114800" y="1905120"/>
          <a:ext cx="1066680" cy="14572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 flipV="1">
            <a:off x="3581280" y="1980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181480" y="1523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4-02-03T19:26:36Z</dcterms:modified>
  <cp:revision>26</cp:revision>
  <dc:subject/>
  <dc:title>Slide 1</dc:title>
</cp:coreProperties>
</file>