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315-11E2-48C4-8B61-88A18943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ECB-DB42-4A33-B083-A0F8552F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934-CD9D-4E69-AA25-2297A5F9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2B2-2C18-4040-8F9B-B1FAC8F7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C9B-D14F-466B-B9FB-FF031AD3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E9D-108F-4201-9EF0-23CD0088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ACE-612D-4559-A39A-2E219AA9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6E9-DA0F-41B1-991B-F5F4988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723-8419-4593-A9E8-3637A2C9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424-D685-4855-B17B-AE42D738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2CB-F447-4126-818B-24D0C97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9BF-8B92-4BAB-9DE1-4660A87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6B40-0CB3-4B48-BF84-7162BF317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914040" y="16761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4771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477120" y="914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477120" y="914400"/>
            <a:ext cx="609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91440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638680" y="7621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926480" y="4119480"/>
            <a:ext cx="22680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52280"/>
          <a:ext cx="990360" cy="121464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 flipV="1">
            <a:off x="2057400" y="30492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MicroLo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v1.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0406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638680" y="3200400"/>
          <a:ext cx="990720" cy="315756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648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14800" y="152280"/>
          <a:ext cx="1066680" cy="1700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3581280" y="309240"/>
            <a:ext cx="53496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04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7400" y="2666880"/>
            <a:ext cx="457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5181480"/>
          <a:ext cx="990360" cy="14572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6320" y="1523880"/>
          <a:ext cx="838080" cy="36432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14600" y="1676520"/>
          <a:ext cx="1066680" cy="26715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809880"/>
          <a:ext cx="1066680" cy="9716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581280" y="19810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14600" y="4724280"/>
          <a:ext cx="1066680" cy="2046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14800" y="2819520"/>
          <a:ext cx="1066680" cy="7318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581280" y="20574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2057400"/>
            <a:ext cx="53352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4800" y="5181480"/>
          <a:ext cx="1066680" cy="15573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581280" y="1981080"/>
            <a:ext cx="5335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048120"/>
          <a:ext cx="990720" cy="19429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uster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t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6-11T19:54:48Z</dcterms:modified>
  <cp:revision>55</cp:revision>
  <dc:subject/>
  <dc:title>Slide 1</dc:title>
</cp:coreProperties>
</file>