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FBB-36CF-4059-85C7-9EA4EEC1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33C-FD6F-48B1-A655-2E8090AE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B1C-56E4-4615-B0A3-52620E10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88F-E3F5-48F0-ABA0-DA9AD380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BA9-0154-4899-BC56-4C41F557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3FB-9C74-4CFC-BE0D-1D6482BF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60F-D936-44EB-A2B6-2C03F807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0EB-A9B7-4665-BBB9-775E8F68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8B9-B5D7-4106-9115-11E82059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0EE-B37D-447F-8F29-2666A891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388-CFC6-4561-A350-258BAC20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1FA-2B71-4759-8CEA-B2813E6A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B8D1-8399-4BCD-B028-2C5EE03F3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719280" cy="9349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205000"/>
            <a:ext cx="719280" cy="93492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619280" y="2276280"/>
            <a:ext cx="180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484280"/>
            <a:ext cx="13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. ele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gen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213000"/>
            <a:ext cx="13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. briggs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gen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21440" y="11962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scan-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1440" y="27806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scan-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981000"/>
            <a:ext cx="2158920" cy="1152720"/>
          </a:xfrm>
          <a:prstGeom prst="flowChartProcess">
            <a:avLst/>
          </a:prstGeom>
          <a:solidFill>
            <a:srgbClr val="dbc3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197000"/>
            <a:ext cx="20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bulate tRNA gene counts for both gen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local d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508640"/>
            <a:ext cx="914400" cy="685800"/>
          </a:xfrm>
          <a:prstGeom prst="flowChartMagneticDrum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373720"/>
            <a:ext cx="13683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. ele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db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(flat f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4724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1800" y="494136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most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29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Perl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4076640"/>
            <a:ext cx="1728720" cy="158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Trans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UniG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gene na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to Worm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ident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486900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4264200"/>
            <a:ext cx="2016000" cy="259380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ce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quences wit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Briggsa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) BLAT h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 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740720" y="3499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2492280"/>
            <a:ext cx="1871640" cy="79236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don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on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62160" y="34286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Pe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28000" y="3495960"/>
            <a:ext cx="11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DS n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907920"/>
            <a:ext cx="503280" cy="486000"/>
          </a:xfrm>
          <a:prstGeom prst="rightArrow">
            <a:avLst>
              <a:gd name="adj1" fmla="val 50000"/>
              <a:gd name="adj2" fmla="val 258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1989000"/>
            <a:ext cx="48600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333360"/>
            <a:ext cx="2232000" cy="151128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lative t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n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nonym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on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0:11:55Z</dcterms:created>
  <dc:creator>P</dc:creator>
  <dc:description/>
  <dc:language>en-US</dc:language>
  <cp:lastModifiedBy>P</cp:lastModifiedBy>
  <dcterms:modified xsi:type="dcterms:W3CDTF">2003-05-22T07:23:20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7615063</vt:r8>
  </property>
  <property fmtid="{D5CDD505-2E9C-101B-9397-08002B2CF9AE}" pid="3" name="_AuthorEmail">
    <vt:lpwstr>perseusm@shaw.ca</vt:lpwstr>
  </property>
  <property fmtid="{D5CDD505-2E9C-101B-9397-08002B2CF9AE}" pid="4" name="_AuthorEmailDisplayName">
    <vt:lpwstr>Perseus Missirlis</vt:lpwstr>
  </property>
  <property fmtid="{D5CDD505-2E9C-101B-9397-08002B2CF9AE}" pid="5" name="_EmailSubject">
    <vt:lpwstr>read this, make flowchart</vt:lpwstr>
  </property>
</Properties>
</file>